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94F4-44F3-4768-BFC4-21709932D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0B10-0A13-45FA-BDA5-5184548A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6A33-3ADB-415E-97BC-AA1732A86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C8D8-84EC-45C0-B2E8-D8EC77A4C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33B7-556C-4910-A9A3-36E60FB1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66EE-191A-4A63-80A6-FD73EE3E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6F7C-7519-4172-B755-CF8EC01D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963F-698C-477E-8A64-B425AF15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6337-6592-4E3E-AAAA-62CF32EF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1B1C-8FA6-4642-B6AA-7D3C395B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B43E-0821-41C2-99FE-6C1E6014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8729-4F70-4409-B697-357A180F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B79609-F8C3-46C1-8E01-4D5FBC73448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Development of Immigration Laws:  1800’s to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What kinds of attitudes about immigration have our laws reflec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Vocab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Quota: 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A cap on how many immigrants can come from one specific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Amnesty: 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Forgiveness for breaking a law; allows those here illegally to seek citize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nese Exclusion Act:  188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614520" indent="-549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1452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Restricted almost all Chinese immigration to the U.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14520" indent="-549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1452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First limit of any kind on immig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14520" indent="-549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1452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Was a result of racist beliefs that blamed Chinese immigrants for economic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ddy Roosevelt's “Gentleman's Agreement”:  19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614520" indent="-549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1452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Roosevelt agreed to end segregation of Japanese in U.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14520" indent="-549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1452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Japanese gov’t agreed not to let any more people immigrate to the U.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14520" indent="-549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1452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Again, it reflected racism towards Asians, especially in Califor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onal Origins Act:  19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14520" indent="-549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1452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Set quotas for immigration from individual countries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based on 1890 census (2% of that pop. annu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4520" indent="-549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1452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Quotas were very unev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1452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 people from each African count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1452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ssia: 2,248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1452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aly: 3,8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1452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land:  34,007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1452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y: 51,2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igration and Nationality Act:  196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29920" y="20970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614520" indent="-549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1452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Abolished nationality and race-based quo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14520" indent="-549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1452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Set overall limits, but treated all countries equa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14520" indent="-549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1452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Created family-based vis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ugee Act:  19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29920" y="22860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658800" indent="-549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Designated up to 70,000 visas per year to go to refugees (people whose lives are threatened by war/discrimination in their home countr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igration Reform and Control Act:  198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658800" indent="-549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Granted amnesty to 3,000,000 illegal immigrants living in the coun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58800" indent="-549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Increased penalties for employers who knowingly hire illegal immigr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Summarize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For what reasons have immigration laws been created in the history of the U.S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Respond in a written paragrap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03:45:26Z</dcterms:created>
  <dc:creator/>
  <dc:description/>
  <dc:language>en-US</dc:language>
  <cp:lastModifiedBy/>
  <cp:revision>1</cp:revision>
  <dc:subject/>
  <dc:title/>
</cp:coreProperties>
</file>